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17055"/>
        <c:axId val="18878563"/>
      </c:barChart>
      <c:catAx>
        <c:axId val="74317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78563"/>
        <c:crosses val="autoZero"/>
        <c:auto val="1"/>
        <c:lblAlgn val="ctr"/>
        <c:lblOffset val="100"/>
        <c:noMultiLvlLbl val="0"/>
      </c:catAx>
      <c:valAx>
        <c:axId val="18878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17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C99-E203-4E0D-95CD-E650EE1A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48C-F035-4329-8045-3FFD05A8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72A-33B9-4899-939F-8A9B2D63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516-1C2D-482E-8BCB-36B870E4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32A-D587-45B0-9D2C-919811E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8E8-B1BD-40D9-861B-7D9FF779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7E6-4486-400F-AFB1-7C4645D7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DA1-1940-44A1-A943-858422D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C88-8F68-4B3F-8CA3-AF2D10AB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BE6-E47A-495A-B3A0-B1C9968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862-4A4D-454B-8FFC-A9934BA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622-C7F6-45F2-A3BE-72C18DE5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5F289-8B76-4E75-B440-9D87267BDD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