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72180"/>
        <c:axId val="7730423"/>
      </c:barChart>
      <c:catAx>
        <c:axId val="67872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0423"/>
        <c:crosses val="autoZero"/>
        <c:auto val="1"/>
        <c:lblAlgn val="ctr"/>
        <c:lblOffset val="100"/>
        <c:noMultiLvlLbl val="0"/>
      </c:catAx>
      <c:valAx>
        <c:axId val="7730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72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478-F10A-4CC7-8D60-1A121D24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A2E-28E8-42F1-B36C-AD80F095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A35-F1B1-47E8-B1F6-282207B4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0B5-BD40-48C5-8EC3-2EB84BB9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4F2-10F1-4F52-9540-71AEBE60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401-C958-4E93-AA31-C5C1D3AD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0F9-1FCF-4F8E-AA77-53566C18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2AE-9C6C-47EC-A8DC-8E8985A8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C7E-BA61-4694-A1D8-0C264B49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753-1FDB-40EE-A754-549E8129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86A-0299-49CF-80CC-7AB9F74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929-A3A3-4B04-999D-C07220C3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0AE40-014B-4B41-B838-4E0190F0CA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