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15533"/>
        <c:axId val="46716530"/>
      </c:barChart>
      <c:catAx>
        <c:axId val="44715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16530"/>
        <c:crosses val="autoZero"/>
        <c:auto val="1"/>
        <c:lblAlgn val="ctr"/>
        <c:lblOffset val="100"/>
        <c:noMultiLvlLbl val="0"/>
      </c:catAx>
      <c:valAx>
        <c:axId val="46716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15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1F3-C833-4604-AB44-B444264B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2F9-8F22-4EC0-A0AC-F3279EA6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54E-33A8-484F-95D8-AEBB095D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034-C1EB-470D-A8F4-D3F84959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23C-D040-470E-B06F-1C03C17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F86-29A9-4FA0-AB52-02801C06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F81-7996-49C8-9217-8988688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BD9-B1A3-466C-AE3D-1724FA6C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C48-DF6D-48CB-8182-1D8FCC16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EF8-2334-48E2-AEBE-19F5C23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ECF-C46A-4A79-B109-5AFFE7A4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B95-5586-4FC4-83EC-C7E1226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D4509-4C89-4525-833A-3DB9F0FB2F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