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08442"/>
        <c:axId val="72612568"/>
      </c:barChart>
      <c:catAx>
        <c:axId val="16408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2568"/>
        <c:crosses val="autoZero"/>
        <c:auto val="1"/>
        <c:lblAlgn val="ctr"/>
        <c:lblOffset val="100"/>
        <c:noMultiLvlLbl val="0"/>
      </c:catAx>
      <c:valAx>
        <c:axId val="72612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8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79F-70AB-42E6-8FF3-20213A2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BBE-C601-4863-84A6-1132612A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541-5A59-44EF-9C4D-C8F1DC27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A6A-E549-4C86-9009-522685ED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AE3-3E71-4BA3-A980-F3FDAC5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57A-DCE4-4FBD-8B8E-FCF6FB31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F4B-8F02-4A09-BBCA-1143F55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7D0-2F8F-46D3-9898-2E678F2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2C9-4695-4A4D-8BA9-AAC12899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F90-3C77-4375-978E-DA54D8A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893-E40C-45D4-A2B8-06417E0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38F-24BC-45F0-AE57-0F5B0FD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310D4-726F-4A83-9013-02303937AF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