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82876"/>
        <c:axId val="69417308"/>
      </c:barChart>
      <c:catAx>
        <c:axId val="889828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17308"/>
        <c:crosses val="autoZero"/>
        <c:auto val="1"/>
        <c:lblAlgn val="ctr"/>
        <c:lblOffset val="100"/>
        <c:noMultiLvlLbl val="0"/>
      </c:catAx>
      <c:valAx>
        <c:axId val="69417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828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42D-C4D1-405F-8D40-45F3F285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582-A11C-4127-9B38-79DC45A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E7B-1E56-460E-B03A-9E418976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0E0-28CD-4BBB-BA25-523DE456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381-E3DE-4B51-8D09-84B062D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95A-2415-442F-B39B-DE69A772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CDC-537C-44DE-8EB4-5941974E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429-7D9B-421B-B935-21961D29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B22-FA68-4AA8-81A0-013BEE63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2E4-64B0-4B34-89D0-6EB644F6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B389-FDD7-4656-B0B0-732F703C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510-5235-4D16-BB81-C7B34E10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6A76D-0883-48F9-9F1F-EE4457EEB8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